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CB20-1BE3-4653-B957-B4B1B434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BC4F-9374-4C65-9D81-AFF14780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F4FE8-BCD8-4C05-B7D6-3FE665EB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53A69-6F7C-4A69-9821-C2322B29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177F8-FE33-4712-B853-5259510E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47939-93CB-4CF3-9379-627FE00C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1F3EF-9415-4FB0-B1CB-0F20FA9F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32598-A5ED-4DA5-971D-6CFA5F02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2325F-4443-4AC9-A0A3-5DAB8D6D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8DEFF-E76F-4FFD-A53E-AA85DB3F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89A82-9F80-4D72-A21F-BD729745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913-D3EC-4656-910F-58F5E77A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D883-8640-4F9A-85C0-9357FCD7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58BD-CF83-4915-902D-3E1D9348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0DB2-8F8E-4AD0-9E59-BE225FE5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92A5-7F9E-4756-B543-C8412CD8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78F7-D10C-491F-BA9F-E49927D1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9505-15CD-4161-9185-1BDC43C0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0DF3-0253-4BED-8187-F31F6610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014D-B027-4E6A-BE01-88740FF4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88DC-5D1E-47BB-9D31-16871BE3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0947-D0FD-49BC-AAA5-DB382AC0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9DD2-7BCA-4E8A-8292-2CAC8A0F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7B27-D01D-4A21-AA2C-1E415AAA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3C2B-8C01-428D-9FC8-051BC131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A161-08FD-4E46-AE72-54C4FDAC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8DACB-F329-4F98-9B04-6A78E039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59533-01DE-4224-8877-D03D0E5A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4C37B-5BE5-4926-A36D-49438630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0174D-5814-402C-9C8A-48ACB736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7BCB8-8267-40DF-BE57-518ADB61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3B83-DE7A-4475-B7E6-9856C37B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AFBE7-BC3F-44C5-B984-2490BC63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5108A-0002-445A-B067-814D5FEE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D7958-6C5B-43AA-BBA7-2428EA16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1369D-3711-47BC-9130-1AA7F6C1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ECABF-2449-4CF5-AB50-6E6CADB3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3155B-1E24-411D-87DE-14CF16FE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8667E-54CB-4C84-85A0-E11D9816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63720-29AE-4C0C-91B5-4D0D9B39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FF4DF-8FAC-4E70-B546-F10EA04F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32F6F-E2AC-4F3D-AD31-A800FA7C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815C-4901-4DE7-BFC8-8AA9D4DF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C3FB8-9EAC-4C77-9513-B263B971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D672C-58F1-43FC-8BCB-AF881069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CD57B-FC36-490E-80C9-5123EBE5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290C6-6FBE-4B67-88D6-23BAABF5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C13D5-2482-4DE1-8D24-9F6B74E7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E09CB-1A70-4FB3-A201-423B896B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5B333-D22B-4612-95E3-DBBE953E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31890-C34D-456F-B072-61283443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39718-89F9-4D51-A934-6AB922BE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65D7B-FFE9-4CCD-AB12-5E333DBB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F8CB-392B-4F13-B3C5-9A99E35A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48881-CE17-4B7F-8DBD-C9003F1D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10EE1-1ACF-432C-9AE6-AEB049BA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E7561-8B21-4BAD-BA85-D95961E8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9FF68-6BED-43B8-8CBA-10009BB6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A48CB-5F48-4017-8D61-8CB9190F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93E82-3F4F-4194-B51B-60D0693D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30482-70FD-40EC-B1E4-E4953807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E6644-84FD-48E4-B769-8705F210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0D464-A188-4052-A0C7-0467C331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7062D-A497-4B1B-AF25-05E7E18D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09D9-6F4A-43B5-8164-5609C089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A9311-3F93-461F-A287-B15AC29A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CA4AE-7AAA-4FFF-9A3C-7E00857B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92ECC-E415-4CD9-9980-D596D4A3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9BCC7-20D8-47F7-A799-ADBBDBE7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7D865-4D29-47FC-8202-94DB165F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6DA37-0FEC-4002-9A7F-7B3E817B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F1020-B049-47F2-BC3D-86E290FF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267D6-79F2-4AC4-9B11-6453E16B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66CC0-004A-4642-AD6C-439B088E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674C5-712F-4333-8065-26F3A334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7919-65BB-43F0-A70D-433BEB5F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F6746-5252-443F-8A30-7BA13F42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2C4CE-3E08-41CE-905B-0E56B8E1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EFB5E-C936-4AED-960E-3645A11A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7B3C4-9C91-47BC-9439-84F48B76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D8B5F-3301-4835-A4CD-288A2450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1DAC1-0E5D-4459-9192-612BD06D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5C214-E8A3-4E2C-B31D-EE2026D0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F3588-7968-4FE1-BE35-9EB05C1E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8D9EF-8408-48F4-85E3-E5D8DD7A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46741-E937-49AC-B06E-F7DDBA90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0559-C783-4103-8143-1DAD8DE1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999D8-B54C-4D16-B3A9-BF2E815E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B7B8D-EEC9-4E76-A8D2-9649BDEA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0F0D6-041D-4751-9C4C-0BF2750D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707CF-0F94-47DE-9445-BF93057F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AF15E-3A31-48BF-A7DD-5CAA9782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416A3-34AE-4464-A378-CB913CA7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4D55A-6905-42BC-AB2E-729F1E1A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27958-5159-4270-A5F4-595A3AA8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839F0-0FB3-4753-AD23-DAEE9542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755FC-BA10-44A3-A3B7-9F6C6D97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3B5C-9954-4AA0-B6E4-2DBCFCEF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BC2FF-BC02-4434-93FD-4454EA6C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DF66F-F84B-47AF-B751-E70F5FFD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F2026-8880-456E-8040-127E3405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E9EC5-E02B-4F4A-ACFC-203D428D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70F27-2518-485B-AC29-8813602A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695FC-B6A9-41BF-9A19-0FF037B0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EE08C-56E5-415D-85FE-971B53A8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06D81-9C4C-424B-9C2E-17F3C54B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9FB6E-8C3F-46F0-86EE-21A342E3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B2A09-34DC-4A6D-A442-41BBE3A1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8E12-5C93-4CBB-8AAB-6D9ABEC2DF62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6D40-39A0-4348-A945-50258C0FBCD8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F580-0CCC-4FC1-ABA2-6AAE93463861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987F-F014-47FC-B130-AB3748C71438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3F53-C48B-4911-BDA1-F62502DE716A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9625-E00B-4330-9240-090591955228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3000-DBB6-40D0-8914-76EC720BC110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E077-27C2-4D0E-84CE-4D567D8FCC71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DB21-5D1B-49EB-B84A-3890D60E2441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AP US History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uritans, Pilgrims, Separatists, and Dissenters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hurch of England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Aka the Anglican Church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Founded in 1534 by King Henry VIII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King tried to divorce his first wife (Catherine of Aragaon) but the Pope refused to dissolve the marriage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The King, angry, broke away from the Roman Catholic Church and created the Church of England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The Anglican Church remained similar to the Catholic Church and Puritans protested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Puritan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39800" y="2771280"/>
            <a:ext cx="7662960" cy="36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Encouraged by the teachings of John Calvin, the Puritans sought to “purify” the Anglican Church by ridding it of ceremony (like the Catholic Church)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Believed that they needed to remain in the Church to stand as examples and purify it from withi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Once the Puritans left England for N. America, they no longer remained active in the Church of England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Known for work ethic and moral “compass”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44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Pilgrim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39800" y="2514600"/>
            <a:ext cx="766296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Known as separatist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18960" indent="-31896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Believed they had to leave the Church of England to escape a life they did not believe i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18960" indent="-31896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rst group set out in 1620 aboard the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Mayflower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r Virginia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18960" indent="-31896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Pilgrims set sail having agreed to work for 7 years for the Virginia Company in exchange for a share of the profit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18960" indent="-31896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hip landed at Plymouth Bay and 1</a:t>
            </a:r>
            <a:r>
              <a:rPr b="0" lang="en-US" sz="2200" spc="-1" strike="noStrike" baseline="30000">
                <a:solidFill>
                  <a:srgbClr val="595959"/>
                </a:solidFill>
                <a:latin typeface="Calisto MT"/>
              </a:rPr>
              <a:t>st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govt. document drafted was Mayflower Compact (separation of church and state, rule of the majority </a:t>
            </a:r>
            <a:r>
              <a:rPr b="0" lang="en-US" sz="2200" spc="-1" strike="noStrike">
                <a:solidFill>
                  <a:srgbClr val="59595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current democratic principles)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18960" indent="-31896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4991040" y="0"/>
            <a:ext cx="41529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Nonseparatist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739440" y="2440080"/>
            <a:ext cx="822492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Next wave of Puritans arriving in New England in 1629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ame due to oppression and persecution by English crown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While in England believed they had to remain within the Church of England to reform it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This wave called “Great Migration” of 1630s (MA Bay Colony)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Most famous governor was John Winthrop (City on a Hill)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nly males allowed to vote, only members of Congregational Church allowed to participate in religious ceremony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Dissenter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39800" y="2376000"/>
            <a:ext cx="766296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nne Hutchinson: believed in antinomianism, that God’s chosen people did not have to obey God’s or man’s laws because they were already in God’s record as predestined to enter Heave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he was banished from MA Bay Colony after claiming to receive direct revelation from God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Roger Williams: believed the colonists had no right to live on Native American land, advocated a complete separation of church and state, also banished from MA Bay Colony (later founded Providence)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Salem Witch Trial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739800" y="2312640"/>
            <a:ext cx="7662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1692 a group of young girls in Salem, MA began acting strangely after hearing tales of voodoo from their West Indian servan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Girls then began to accuse older, wealthy members of the community of witchcraft, leading to mass hysteria in Salem and other area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20 people were executed and the prestige of traditional Puritan clergy was damaged beyond repair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1:45:49Z</dcterms:created>
  <dc:creator>Mark Scacewater</dc:creator>
  <dc:description/>
  <dc:language>en-US</dc:language>
  <cp:lastModifiedBy>Mark Scacewater</cp:lastModifiedBy>
  <dcterms:modified xsi:type="dcterms:W3CDTF">2011-09-09T20:51:06Z</dcterms:modified>
  <cp:revision>7</cp:revision>
  <dc:subject/>
  <dc:title>AP US History</dc:title>
</cp:coreProperties>
</file>